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B48-B628-4AA9-A2B6-DC09FFF7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7D5-1992-4A4A-B938-502929EC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17B-B342-4B69-B2CE-8FBFD930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531-BC5D-42CD-BED1-E3C86CB5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5F6-C19B-4D10-A358-23B0CFD7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B2A-34A9-4C9E-AB05-F277AF6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DE7-6DC1-4106-A380-828A4D3A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142-D64D-4AE3-A795-23BB764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9A1-E68E-4371-BAC1-BE83EEAE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041-FCE7-47C0-806B-658DC91A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153-369C-46A7-A393-6B37384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CAF-6421-46BC-A46C-0E512AE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DBA-F2AA-4136-AF01-57519DD62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968075CjKGRKnhq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بحُ اسمَك ليلاً و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أنتَ إلهنا قدّوسٌ و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حمدُ اسمَ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ونُعَلّي شخصَ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جُدُ 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49:09Z</dcterms:created>
  <dc:creator>USER</dc:creator>
  <dc:description/>
  <dc:language>en-US</dc:language>
  <cp:lastModifiedBy>USER</cp:lastModifiedBy>
  <dcterms:modified xsi:type="dcterms:W3CDTF">2003-01-18T09:18:53Z</dcterms:modified>
  <cp:revision>3</cp:revision>
  <dc:subject/>
  <dc:title>PowerPoint Presentation</dc:title>
</cp:coreProperties>
</file>